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D37-DF94-4D4F-AA6A-001C1708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6DB-D5FF-41E2-B61F-545C48E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16F-A855-464D-9C9A-415B81BC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CED-3B6D-440E-B056-AD6D8016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28C-00AA-4544-858E-EAD5AC70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2B6-97AA-4592-9F1E-7524398B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985-7879-4C6E-B2AB-611D756A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FE2-56AF-47D1-B9A6-5D3BF32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B05-5792-4602-9C2D-0E9DCD2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775-AB55-49F4-A5C8-45910E92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5628-15B6-4BED-A144-2B8AAE5D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6AF-3452-4523-925B-27DB20E0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91B-E625-4464-8139-CA1387E51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2473200"/>
            <a:ext cx="3048120" cy="173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precedenceIsNotLowerThan(char op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4760" y="4683240"/>
            <a:ext cx="3048120" cy="15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push(double op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pop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L IsEmpty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clear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7760" y="504828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nd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930400"/>
            <a:ext cx="220968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erator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 op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960" y="660240"/>
            <a:ext cx="1752480" cy="100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d ru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49600" y="1092240"/>
            <a:ext cx="1371600" cy="82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enTyp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/ope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20840" y="1676520"/>
            <a:ext cx="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20840" y="328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676520"/>
            <a:ext cx="0" cy="38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5537160"/>
            <a:ext cx="110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19640" y="334008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551196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20040" y="54864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50160" y="54990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000640" y="63244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001000" y="58924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32640" y="3365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763120" y="3378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8013600" y="420372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013600" y="377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78920" y="270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 Evaluator C++ 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08:49:43Z</dcterms:created>
  <dc:creator>TING</dc:creator>
  <dc:description/>
  <dc:language>en-US</dc:language>
  <cp:lastModifiedBy>TING</cp:lastModifiedBy>
  <dcterms:modified xsi:type="dcterms:W3CDTF">2001-02-28T09:07:24Z</dcterms:modified>
  <cp:revision>1</cp:revision>
  <dc:subject/>
  <dc:title>無投影片標題</dc:title>
</cp:coreProperties>
</file>